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1E2-5707-43AF-9F2F-C4052C5A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56A-EC53-4BE1-B5DA-6068EBF0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FDA-8C2B-4512-9828-BFFB0E14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AD2-16BE-44A7-98C6-33602737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163-1029-4655-A337-3F62830C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876-388E-412C-A923-495588AA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489-D7F5-4A9C-9D42-783FB35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3AC-7087-4629-85C6-F8804933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C6A-3035-40A5-8AA6-D6A42AB2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239-F427-4D33-869E-8A928477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098-8025-4293-945C-A7F81BAA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1C6-E364-4BA4-B8B7-7C2DBD36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5575-98EF-4D78-9775-8430D2617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920000" cy="1871640"/>
          </a:xfrm>
          <a:prstGeom prst="rect">
            <a:avLst/>
          </a:prstGeom>
          <a:solidFill>
            <a:srgbClr val="ccecff"/>
          </a:solidFill>
          <a:ln w="10152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кон сохранения массы вещест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1455840" y="1562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составления химических урав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В левой части уравнения записать формулы реагентов. Затем поставить стрел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) 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O + HN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6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В правой части (после стрелки) записать формулы веществ, образующихся в результате реакции (продукт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A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        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gCl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O + HN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→ Ca(N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Уравнение реакции составляется на основе закона сохранения массы веществ,  т. е. слева и справа должно быть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вное число атом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Это достигается расстановкой коэффициентов перед формулами вещес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расстановки коэффициентов в уравнении химической реакц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дсчита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ичество атом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ждого элемент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авой и левой ча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Определить, у какого элемента количество атомов меняется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Н.О.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ить Н.О.К. на индек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учить коэффициенты. Поставить коэффициенты перед форму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ересчитать количество атомов, при необходимости действия повт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 Начинать лучше с атомов О или любого другого неметалла (если только О не находится в составе нескольких вещест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 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gCl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) 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вещества не получаются из ничего и не могут обратиться в нич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химических реакциях происходит  перегруппировка ат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а веществ, вступивших в реакцию равна массе образовавшихся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оставлении уравнений нужно соблюдать закон сохранения массы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62728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источни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4000" y="177336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istorydoc.edu.ru/catalog.asp?cat 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b_no=&amp;ob_no=14805 /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erudition.ru/referat/ref/id/4051_1.html/ 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hemi.nsu.ru/text152.htm 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iki.saripkro.ru/index.php/% 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yacovleva-28.ucoz.ru/publ/3-1-0-1/04.10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закона сохранения массы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59280" y="2133720"/>
            <a:ext cx="23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84360" y="4005360"/>
            <a:ext cx="67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учащихся состав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внений химических реа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84360" y="2852640"/>
            <a:ext cx="80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воение учащимися закона и его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08400" y="5084640"/>
            <a:ext cx="83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положительного отношения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ям, патриотизма, трудолю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rcRect l="17919" t="0" r="52251" b="41146"/>
          <a:stretch/>
        </p:blipFill>
        <p:spPr>
          <a:xfrm>
            <a:off x="395280" y="404640"/>
            <a:ext cx="1800360" cy="2664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270880" y="907920"/>
            <a:ext cx="586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В.Ломоносов в 1748 г. в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улировал, а в 1756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 доказал зак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rcRect l="55218" t="1644" r="16880" b="41726"/>
          <a:stretch/>
        </p:blipFill>
        <p:spPr>
          <a:xfrm>
            <a:off x="7236000" y="3500280"/>
            <a:ext cx="1655640" cy="252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348000" y="3789360"/>
            <a:ext cx="385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Лавуазье в 1789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моносова к при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же выв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93"/>
          <p:cNvPicPr/>
          <p:nvPr/>
        </p:nvPicPr>
        <p:blipFill>
          <a:blip r:embed="rId1"/>
          <a:srcRect l="0" t="-25" r="350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ировка зак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ществ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ступивш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 химическую реакцию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в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ассе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вших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889"/>
          <p:cNvPicPr/>
          <p:nvPr/>
        </p:nvPicPr>
        <p:blipFill>
          <a:blip r:embed="rId1"/>
          <a:srcRect l="25598" t="2336" r="23236" b="0"/>
          <a:stretch/>
        </p:blipFill>
        <p:spPr>
          <a:xfrm>
            <a:off x="2556000" y="620640"/>
            <a:ext cx="4680000" cy="5989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571920" y="60721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уд Ландольт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5"/>
          <p:cNvGrpSpPr/>
          <p:nvPr/>
        </p:nvGrpSpPr>
        <p:grpSpPr>
          <a:xfrm>
            <a:off x="5651640" y="333360"/>
            <a:ext cx="3313080" cy="4896000"/>
            <a:chOff x="5651640" y="333360"/>
            <a:chExt cx="3313080" cy="4896000"/>
          </a:xfrm>
        </p:grpSpPr>
        <p:sp>
          <p:nvSpPr>
            <p:cNvPr id="60" name="Oval 26"/>
            <p:cNvSpPr/>
            <p:nvPr/>
          </p:nvSpPr>
          <p:spPr>
            <a:xfrm>
              <a:off x="5651640" y="1845000"/>
              <a:ext cx="3313080" cy="3384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7"/>
            <p:cNvSpPr/>
            <p:nvPr/>
          </p:nvSpPr>
          <p:spPr>
            <a:xfrm>
              <a:off x="6948720" y="333360"/>
              <a:ext cx="863640" cy="1584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0"/>
          <p:cNvGrpSpPr/>
          <p:nvPr/>
        </p:nvGrpSpPr>
        <p:grpSpPr>
          <a:xfrm>
            <a:off x="179280" y="404640"/>
            <a:ext cx="3313080" cy="4896000"/>
            <a:chOff x="179280" y="404640"/>
            <a:chExt cx="3313080" cy="4896000"/>
          </a:xfrm>
        </p:grpSpPr>
        <p:sp>
          <p:nvSpPr>
            <p:cNvPr id="63" name="Oval 17"/>
            <p:cNvSpPr/>
            <p:nvPr/>
          </p:nvSpPr>
          <p:spPr>
            <a:xfrm>
              <a:off x="179280" y="1916280"/>
              <a:ext cx="3313080" cy="3384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1476360" y="404640"/>
              <a:ext cx="863640" cy="1584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АГ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3575160" y="329724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278160" y="2276640"/>
            <a:ext cx="26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564000" y="3645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а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159960" y="2492280"/>
            <a:ext cx="24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455160" y="31478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омы не появляются и не исчезаю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химической реа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508"/>
          <p:cNvPicPr/>
          <p:nvPr/>
        </p:nvPicPr>
        <p:blipFill>
          <a:blip r:embed="rId1"/>
          <a:srcRect l="0" t="62054" r="0" b="0"/>
          <a:stretch/>
        </p:blipFill>
        <p:spPr>
          <a:xfrm>
            <a:off x="6156360" y="184464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508"/>
          <p:cNvPicPr/>
          <p:nvPr/>
        </p:nvPicPr>
        <p:blipFill>
          <a:blip r:embed="rId2"/>
          <a:srcRect l="8730" t="35844" r="0" b="37951"/>
          <a:stretch/>
        </p:blipFill>
        <p:spPr>
          <a:xfrm>
            <a:off x="3564000" y="234936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508"/>
          <p:cNvPicPr/>
          <p:nvPr/>
        </p:nvPicPr>
        <p:blipFill>
          <a:blip r:embed="rId3"/>
          <a:srcRect l="0" t="0" r="0" b="63384"/>
          <a:stretch/>
        </p:blipFill>
        <p:spPr>
          <a:xfrm>
            <a:off x="250920" y="1916280"/>
            <a:ext cx="3097080" cy="316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группировка атомов пр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имической реа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353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  2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    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+     2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http://www.hemi.nsu.ru/502b.jpg"/>
          <p:cNvPicPr/>
          <p:nvPr/>
        </p:nvPicPr>
        <p:blipFill>
          <a:blip r:embed="rId1"/>
          <a:stretch/>
        </p:blipFill>
        <p:spPr>
          <a:xfrm>
            <a:off x="0" y="3716280"/>
            <a:ext cx="3995640" cy="2247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hemi.nsu.ru/502c.jpg"/>
          <p:cNvPicPr/>
          <p:nvPr/>
        </p:nvPicPr>
        <p:blipFill>
          <a:blip r:embed="rId2"/>
          <a:stretch/>
        </p:blipFill>
        <p:spPr>
          <a:xfrm>
            <a:off x="4643280" y="3429000"/>
            <a:ext cx="432144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692360" y="4365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 flipV="1">
            <a:off x="3903840" y="4149000"/>
            <a:ext cx="62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1:44:35Z</dcterms:created>
  <dc:creator>user</dc:creator>
  <dc:description/>
  <dc:language>en-US</dc:language>
  <cp:lastModifiedBy>кабинет химии</cp:lastModifiedBy>
  <dcterms:modified xsi:type="dcterms:W3CDTF">2014-01-16T05:30:47Z</dcterms:modified>
  <cp:revision>42</cp:revision>
  <dc:subject/>
  <dc:title>Слайд 1</dc:title>
</cp:coreProperties>
</file>